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86D4-435F-4747-ADA0-94040F6E9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2920" y="408960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807F-9312-4875-A1E9-D78F09C5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292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124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BD8D-C30D-4AA2-9084-85EA072C9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70120" y="18000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6960" y="18000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920" y="40896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70120" y="40896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6960" y="40896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16BD-8916-45CC-9DE7-C53D83DF8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2920" y="180000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E671-9007-4F00-8ACF-95539AE9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B8BE-50B4-473A-8748-96EF6CB4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8F99-3DCB-4320-8CC9-9B27AF15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66DC-D4DE-4AC3-BFDA-CE460DB9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3280" y="576000"/>
            <a:ext cx="719784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097E-CE13-4D23-AEE0-C4CE9E68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292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B22A-C777-4797-B1D5-E48965D3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124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6233-5632-4CC3-875A-959FA323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2920" y="408960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6394-C718-4987-9AAB-58D15D63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80000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A53919-533D-4C2C-8384-B49E5CD0BA65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Java-generated Sl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sing LibreOf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What is a Algorithm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n algorithm is a finite set of unambiguous instructions for solving a proble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n algorithm is correct if on all legitimate inputs, it outputs the right answer in a finite amount of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Can be expressed 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pseudo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flow cha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text in a natural language (e.g. Englis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compu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Algorithm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The theoretical  study of how to solve  computational probl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orting a list of numb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finding a shortest route on a ma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cheduling when to work on home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nswering web search que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nd so on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The Importance of Algorith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Their impact is broad and far-reach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Internet. Web search, packet routing, 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Computers. Circuit layout, file system, compilers, 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Computer graphics. Movies, virtual reality, 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ecurity. Cell phones, e-commerce, 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ultimedia. MP3, JPG, DivX, HDTV, 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ocial networks.  Recommendations, news feeds, ads, 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Top Ten Algorithms of the Centu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Ten algorithms having "the greatest influence on the development and practice of science and engineering in the 20th century"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Dongarra and Sullivan, "Computing in Science and Engineering", January/February 2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arry Cipra, "The Best of the 20th Century: Editors Name Top 10 Algorithms", SIAM News, Volume 33, Number 4, May 2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http://www.siam.org/pdf/news/637.pd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3000"/>
              </a:lnSpc>
              <a:spcAft>
                <a:spcPts val="850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3T09:13:43Z</dcterms:created>
  <dc:creator/>
  <dc:description/>
  <dc:language>en-US</dc:language>
  <cp:lastModifiedBy/>
  <cp:revision>1</cp:revision>
  <dc:subject/>
  <dc:title/>
</cp:coreProperties>
</file>