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389-454D-400A-ABAA-1988DD99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8D6-210D-4CED-B0BB-4602CD1F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69D-B96D-4916-A10B-2FFC9EB2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53E-384A-43CD-AD04-6E40895D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5B5-3F6A-4FC8-BA07-6A2BF17C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EAF-63B4-4B91-B76D-BCA29927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1E1-9A36-452A-B925-606E57C8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C96-3921-47ED-9ADF-0CA56A10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B53-69BE-4DD6-BBFB-568C1451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2B3-00C5-413B-93C6-35D228F7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1FD-0085-4C6A-B753-A7B22E04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BF2-C485-41EC-9C20-5FA005CF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FAD86-789C-4E10-91EF-329B5D95FD76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Java-generated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ing Libre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hat is a Algorith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 algorithm is a finite set of unambiguous instructions for solving a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 algorithm is correct if on all legitimate inputs, it outputs the right answer in a finite amount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n be expressed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low ch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xt in a natural language (e.g. Englis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pu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gorith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he theoretical  study of how to solve  computational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orting a list of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inding a shortest route on a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cheduling when to work on ho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swering web search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d so 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he Importance of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heir impact is broad and far-r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ternet. Web search, packet routing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puters. Circuit layout, file system, compilers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puter graphics. Movies, virtual reality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ecurity. Cell phones, e-commerce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ultimedia. MP3, JPG, DivX, HDTV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ocial networks.  Recommendations, news feeds, ads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op Ten Algorithms of the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n algorithms having "the greatest influence on the development and practice of science and engineering in the 20th century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ongarra and Sullivan, "Computing in Science and Engineering", January/February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arry Cipra, "The Best of the 20th Century: Editors Name Top 10 Algorithms", SIAM News, Volume 33, Number 4, May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://www.siam.org/pdf/news/637.p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09:13:43Z</dcterms:created>
  <dc:creator/>
  <dc:description/>
  <dc:language>en-US</dc:language>
  <cp:lastModifiedBy/>
  <cp:revision>1</cp:revision>
  <dc:subject/>
  <dc:title/>
</cp:coreProperties>
</file>