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14d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00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073c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3200" y="6500880"/>
            <a:ext cx="2502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240-302 Comp. Eng. Lab IV. Java 3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8464320" y="650088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2062-06EB-4053-BFA2-CA66E4993F6A}" type="slidenum"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" name="header%20Coe%2002" descr=""/>
          <p:cNvPicPr/>
          <p:nvPr/>
        </p:nvPicPr>
        <p:blipFill>
          <a:blip r:embed="rId2"/>
          <a:stretch/>
        </p:blipFill>
        <p:spPr>
          <a:xfrm>
            <a:off x="85680" y="152280"/>
            <a:ext cx="7381800" cy="381240"/>
          </a:xfrm>
          <a:prstGeom prst="rect">
            <a:avLst/>
          </a:prstGeom>
          <a:ln w="0">
            <a:noFill/>
          </a:ln>
        </p:spPr>
      </p:pic>
      <p:pic>
        <p:nvPicPr>
          <p:cNvPr id="11" name="Icon%20Coe%200" descr=""/>
          <p:cNvPicPr/>
          <p:nvPr/>
        </p:nvPicPr>
        <p:blipFill>
          <a:blip r:embed="rId3"/>
          <a:stretch/>
        </p:blipFill>
        <p:spPr>
          <a:xfrm>
            <a:off x="101520" y="6324480"/>
            <a:ext cx="6606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Introduction to Java 3D (1)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1440" y="3016080"/>
            <a:ext cx="34725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Dr. Andrew Davison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Room 101, CoE</a:t>
            </a:r>
            <a:br>
              <a:rPr sz="2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dandrew@ratree.psu.ac.t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74280" y="45612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240-302, Computer Engineering Lab IV (Software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72428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Checkers3D.jav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public class Checkers3D extends JFrame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{ public Checkers3D()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{ super("Checkers3D"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ontainer c = getContentPane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.setLayout( new BorderLayout() 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WrapCheckers3D w3d = new WrapCheckers3D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       // panel holding the 3D scene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.add(w3d, BorderLayout.CENTER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etDefaultCloseOperation( JFrame.EXIT_ON_CLOSE 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pack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etResizable(false);    // fixed size display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how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} // end of Checkers3D()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{ new Checkers3D(); }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} // end of Checkers3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88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Scene Graph for Checkers3D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1380960"/>
            <a:ext cx="5562360" cy="534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96200" y="3032280"/>
            <a:ext cx="1434960" cy="703800"/>
          </a:xfrm>
          <a:prstGeom prst="rect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view branch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not show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>
                <a:solidFill>
                  <a:srgbClr val="fafd00"/>
                </a:solidFill>
                <a:latin typeface="Times New Roman"/>
              </a:rPr>
              <a:t>Building the Scene Graph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VirtualUniver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, and view branch graph often have the same structure across different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programmers usually create them with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impleUniver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utility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88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WrapChecker3D Constructor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private SimpleUniverse su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private BranchGroup sceneBG;  // for content branch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private BoundingSphere bounds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public WrapCheckers3D()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{ setLayout( new BorderLayout() 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etOpaque( false 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etPreferredSize( new Dimension(PWIDTH, PHEIGHT));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GraphicsConfiguration config =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SimpleUniverse.getPreferredConfiguration();</a:t>
            </a:r>
            <a:br>
              <a:rPr sz="1800"/>
            </a:b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    Canvas3D canvas3D = new Canvas3D(config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add("Center", canvas3D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anvas3D.setFocusable(true);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anvas3D.requestFocus();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su = new SimpleUniverse(canvas3D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createSceneGraph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initUserPosition();      // set user's viewpoint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orbitControls(canvas3D);  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      // controls for moving the viewpoint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u.addBranchGraph( sceneBG );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} // end of WrapCheckers3D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createSceneGraph()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private void createSceneGraph()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// initilise the scene below sceneBG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{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ceneBG = new BranchGroup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bounds = new BoundingSphere(new Point3d(0,0,0),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BOUNDSIZE);   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lightScene();         // add the light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addBackground();      // add the sky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ceneBG.addChild( new CheckerFloor().getBG() ); 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// add the floor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floatingSphere();     // add the floating sphere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ceneBG.compile();   // fix the scene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} // end of createSceneGraph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4.  Lighting a Scen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here are four types of light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ambient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directional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point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spot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Any number of these can be added to a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A shape must be set up to reflect light (see lat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888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afd00"/>
                </a:solidFill>
                <a:latin typeface="Times New Roman"/>
              </a:rPr>
              <a:t>4.1.  Ambient Ligh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543800" cy="236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mbient light has the same intensity in all locations and dire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8cf4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used as a kind of 'background' lighting in many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888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afd00"/>
                </a:solidFill>
                <a:latin typeface="Times New Roman"/>
              </a:rPr>
              <a:t>4.2.  Directional Ligh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Cordia New"/>
              </a:rPr>
              <a:t>Provides light shining in one dir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often used to approximate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ExDirectionalLight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888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afd00"/>
                </a:solidFill>
                <a:latin typeface="Times New Roman"/>
              </a:rPr>
              <a:t>4.3.  Point Ligh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152388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Light emitted from a po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the intensity changes with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often used to approximate light bulbs, candle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ExPointLight" descr=""/>
          <p:cNvPicPr/>
          <p:nvPr/>
        </p:nvPicPr>
        <p:blipFill>
          <a:blip r:embed="rId1"/>
          <a:stretch/>
        </p:blipFill>
        <p:spPr>
          <a:xfrm>
            <a:off x="297180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ontent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1.  Java 3D 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2.  What is a Scene Grap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3.  A Java 3D Skele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4.  Lighting a Sc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5.  Making a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6.  3D Sh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7.  Shape Col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8.  Transform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9.  Mor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888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afd00"/>
                </a:solidFill>
                <a:latin typeface="Times New Roman"/>
              </a:rPr>
              <a:t>4.4.  SpotLigh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dds direction and concentration to the 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Point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ExSpotLight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000" spc="-1" strike="noStrike">
                <a:solidFill>
                  <a:srgbClr val="fafd00"/>
                </a:solidFill>
                <a:latin typeface="Times New Roman"/>
              </a:rPr>
              <a:t>4.5.  lightScene() in WrapChecker3D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private void lightScene()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/* One ambient light, 2 directional lights */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{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Color3f white = new Color3f(1.0f, 1.0f, 1.0f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// Red, Green, Blue values in 0-1 range</a:t>
            </a:r>
            <a:br>
              <a:rPr sz="2000"/>
            </a:b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2000" spc="-1" strike="noStrike">
                <a:solidFill>
                  <a:srgbClr val="8cf4ea"/>
                </a:solidFill>
                <a:latin typeface="Courier New"/>
              </a:rPr>
              <a:t>// Set up the ambient light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2000" spc="-1" strike="noStrike">
                <a:solidFill>
                  <a:srgbClr val="fafd00"/>
                </a:solidFill>
                <a:latin typeface="Courier New"/>
              </a:rPr>
              <a:t>AmbientLight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ambientLightNode =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new AmbientLight(white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ambientLightNode.setInfluencingBounds(bounds);</a:t>
            </a:r>
            <a:br>
              <a:rPr sz="2000"/>
            </a:b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sceneBG.addChild(ambientLightNode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1560" y="5562720"/>
            <a:ext cx="2326680" cy="1008720"/>
          </a:xfrm>
          <a:prstGeom prst="rect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Lights must be giv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bounds in which to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operate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4800240"/>
            <a:ext cx="99072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2000" spc="-1" strike="noStrike">
                <a:solidFill>
                  <a:srgbClr val="8cf4ea"/>
                </a:solidFill>
                <a:latin typeface="Courier New"/>
              </a:rPr>
              <a:t>// Set up the directional lights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Vector3f light1Direction  =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new Vector3f(-1.0f, -1.0f, -1.0f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     // (x,y,z) left, down, backwards </a:t>
            </a:r>
            <a:br>
              <a:rPr sz="2000"/>
            </a:b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Vector3f light2Direction  =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new Vector3f(1.0f, -1.0f, 1.0f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    // (x,y,z) right, down, forwards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182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419720" y="4784760"/>
            <a:ext cx="1676160" cy="966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447984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5622840"/>
            <a:ext cx="533520" cy="6858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5851440"/>
            <a:ext cx="152280" cy="15264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725520" y="5089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x-axi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4479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z-axi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99880" y="61563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y-axi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515320" y="585144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4321080" y="5622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4854600" y="42512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6530760" y="5241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878000" y="577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5639760" y="45561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039560" y="52261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2000" spc="-1" strike="noStrike">
                <a:solidFill>
                  <a:srgbClr val="fafd00"/>
                </a:solidFill>
                <a:latin typeface="Courier New"/>
              </a:rPr>
              <a:t>DirectionalLight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light1 =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new DirectionalLight(white, light1Direction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light1.setInfluencingBounds(bounds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sceneBG.addChild(light1);</a:t>
            </a:r>
            <a:br>
              <a:rPr sz="2000"/>
            </a:b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2000" spc="-1" strike="noStrike">
                <a:solidFill>
                  <a:srgbClr val="fafd00"/>
                </a:solidFill>
                <a:latin typeface="Courier New"/>
              </a:rPr>
              <a:t>DirectionalLight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light2 =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new DirectionalLight(white, light2Direction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light2.setInfluencingBounds(bounds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sceneBG.addChild(light2);</a:t>
            </a:r>
            <a:br>
              <a:rPr sz="2000"/>
            </a:b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}  // end of lightScen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5.  Making a Background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private void addBackground()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// A blue sky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{ Background back = new Background(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back.setApplicationBounds( bounds 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back.setColor(0.17f, 0.65f, 0.92f); 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         // sky colour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sceneBG.addChild( back 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}  // end of addBackgroun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20080" y="4783680"/>
            <a:ext cx="3512160" cy="1008720"/>
          </a:xfrm>
          <a:prstGeom prst="rect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A background can be a constant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colour (as here), an image,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or a geometry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6.  3D Shap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3D shape is defined as 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hape3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hape3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 ha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node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o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up of coordinat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ertice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ppea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colour, textur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560920" y="2209680"/>
          <a:ext cx="306864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0920" y="2209680"/>
                    <a:ext cx="3068640" cy="4077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01320" y="635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here are several predefined shape classes in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com.sun.j3d.utils.geometry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Box</a:t>
            </a: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Sphere</a:t>
            </a: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Cone</a:t>
            </a: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Cyli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we us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Sphere</a:t>
            </a: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Checkers3D</a:t>
            </a:r>
            <a:br>
              <a:rPr sz="2400"/>
            </a:b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Usually these classes are insufficient, and a shape's geometry must be built by connecting verti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Building Geometry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ometryArr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lass is the parent for several useful geometry sub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3587760"/>
            <a:ext cx="86104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afd00"/>
                </a:solidFill>
                <a:latin typeface="Times New Roman"/>
              </a:rPr>
              <a:t>7.  Shape Colour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You can specify a shape's colour in three way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in the shape's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used when the scene is illuminated (as here)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in the shape's colouring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used when the shape is unrefle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in the vertices of the shape's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lso for unreflecting sh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afd00"/>
                </a:solidFill>
                <a:latin typeface="Times New Roman"/>
              </a:rPr>
              <a:t>Illuminating a Shap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shape will reflect light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scene has l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set up in lightScene()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shape has materi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see the next few slides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shape has a geometry containing nor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done automatically in predefined shapes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(Sphere, Box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1.  Java 3D Overview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igh-level API for building interactive 3D applications and app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s a </a:t>
            </a:r>
            <a:r>
              <a:rPr b="0" i="1" lang="en-US" sz="2400" spc="-1" strike="noStrike">
                <a:solidFill>
                  <a:srgbClr val="8cf4ea"/>
                </a:solidFill>
                <a:latin typeface="Times New Roman"/>
              </a:rPr>
              <a:t>scene 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model/control the 3D sc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 and efficient impl. on a variety of 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t on top of OpenGL and Direct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featu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behavi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ers for many 3D file 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Types of Shape Reflection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5" name="checkers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954840" y="1995120"/>
            <a:ext cx="13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specula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(white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572000" y="2286000"/>
            <a:ext cx="2362320" cy="53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932880" y="3611520"/>
            <a:ext cx="13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(blue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419360" y="3276360"/>
            <a:ext cx="251460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456480" y="2042280"/>
            <a:ext cx="17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ambient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(blue here,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but often set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to black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2743200"/>
            <a:ext cx="2286000" cy="53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535320" y="441864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no shadow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57400" y="4114440"/>
            <a:ext cx="220968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6703920" y="515016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no reflec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for the floo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571640" y="4800240"/>
            <a:ext cx="213372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Material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Material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is part of a shape's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Appearance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node compon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Material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object specifies ambient, diffuse, specular, and emissive colors and a shininess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emissive colour is a kind of glowing effect, but it does not illuminate other sha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Creating a Material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private void floatingSphere()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// A shiny blue sphere located at (0,4,0)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{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// Create the blue appearance node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olor3f black = new Color3f(0.0f, 0.0f, 0.0f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olor3f blue = new Color3f(0.3f, 0.3f, 0.8f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olor3f specular = new Color3f(0.9f, 0.9f, 0.9f);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Material blueMat = </a:t>
            </a:r>
            <a:br>
              <a:rPr sz="1800"/>
            </a:b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     new Material(blue, black, blue, specular,25.0f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   // ambient,emissive,diffuse,specular,shininess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blueMat.setLightingEnable( true );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Appearance blueApp = new Appearance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blueApp.setMaterial(blueMat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     :   // position the sphere: see later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 shape is transformed using a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TranformGroup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The three basic transform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8cf4ea"/>
                </a:solidFill>
                <a:latin typeface="Times New Roman"/>
              </a:rPr>
              <a:t>translatio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: move the shape to a new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8cf4ea"/>
                </a:solidFill>
                <a:latin typeface="Times New Roman"/>
              </a:rPr>
              <a:t>rotatio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: rotate the shape around the X, Y, Z 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8cf4ea"/>
                </a:solidFill>
                <a:latin typeface="Times New Roman"/>
              </a:rPr>
              <a:t>scaling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: resize the shap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TransformGroup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object is initialised using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Tranform3D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afd00"/>
                </a:solidFill>
                <a:latin typeface="Times New Roman"/>
              </a:rPr>
              <a:t>8.  Transfomation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Translation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hape3D myShape = new Shape3D(myGeo, myApp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ransform3D t3d = new Transform3D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3d.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 new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Vector3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2.0, 1.0, -2.0)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transform group, set transform, add the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ransformGroup tg = new TransformGroup(t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g.addChild(myShap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Rotation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hape3D myShape = new Shape3D(myGeo, myApp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 (around z-ax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ransform3D t3d = new Transform3D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3d.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rotZ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0.785); // rotate by 45 degre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transform group, set transform, add the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ransformGroup tg = new TransformGroup(t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g.addChild(myShap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0200" y="418680"/>
            <a:ext cx="77785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Scalin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hape3D myShape = new Shape3D(myGeo, myApp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ing by 1.75 in X, Y, and 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ransform3D t3d = new Transform3D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3d.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1.75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ransform group, set transform, add the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ransformGroup tg = new TransformGroup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g.setTransform(t3d);  // another 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g.addChild(myShap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omposite Transformation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translations, rotations, and scaling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oid setTranslation(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Vector3d vectorTranslation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oid setRotation( AxisAngle4d axisangleAxis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oid setRotation( Matrix3d matrixRotation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oid setScale( double scaleFactor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Positioning the Spher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private void floatingSphere()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// blue sphere located at (0,4,0)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{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    :   // set up the blue material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// position the sphere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Transform3D t3d = new Transform3D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t3d.set( new Vector3f(0,4,0));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TransformGroup tg = new TransformGroup(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t3d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tg.addChild(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new Sphere(2.0f, blueApp)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);  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         // set its radius and appearance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ceneBG.addChild(tg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}  // end of floatingSpher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499080" y="838080"/>
          <a:ext cx="22939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9080" y="838080"/>
                    <a:ext cx="2293920" cy="3048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9.  More Information 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  <a:ea typeface="Cordia New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install the latest version of Ja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java.sun.com/j2se/downloads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get the SDK (full)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should be installed before Java 3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Also get Java's API docs and tuto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java.sun.com/docs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Some Application Area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/Medical/Data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graphical information systems (G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-aided design (C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-aided education (CA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 interes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Java 3D Software and Doc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Main 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www.javasoft.com/products/java-media/3D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Download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java.sun.com/products/java-media/3D/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download.html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There are lots of choices between different platforms and OpenGL/Direct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get a SDK (full) 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the OpenGL version is reportedly more 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01320" y="635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Also get the "implementation documentation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it describes the core API and the utility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After installation, you will fi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&lt;JAVA HOME&gt;\demo\java3d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contains about 40 small-to-medium examp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a great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test the install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cd to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&lt;JAVA HOME&gt;\demo\java3d\Hello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java Hello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you should see a rotating coloured cu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01320" y="635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50480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Download the Java 3D tuto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java.sun.com/products/java-media/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3D/collateral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also get the example code (zipped JAR) that goes with the tutorial 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Resources here at Co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CoE Students can get Java and Java 3D from Aj. Somchai's excellent Java p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java.coe.psu.ac.th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java.coe.psu.ac.th/RefImp.html#J2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Java 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java.coe.psu.ac.th/RefImp.html#Java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Java 3D Book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200" spc="-1" strike="noStrike">
                <a:solidFill>
                  <a:srgbClr val="8cf4ea"/>
                </a:solidFill>
                <a:latin typeface="Times New Roman"/>
              </a:rPr>
              <a:t>Java 3D API Jump-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Aaron E. Walsh, Doug Gehringer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Prentice Hall; 0-1303-4076-6,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200" spc="-1" strike="noStrike">
                <a:solidFill>
                  <a:srgbClr val="8cf4ea"/>
                </a:solidFill>
                <a:latin typeface="Times New Roman"/>
              </a:rPr>
              <a:t>Java 3D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Daniel Selman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Manning Pub.; 1-9301-1035-9;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www.manning.com/selma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01320" y="635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6004800" y="699840"/>
            <a:ext cx="2811240" cy="1191240"/>
          </a:xfrm>
          <a:prstGeom prst="rect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Both of these are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in the CoE library,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or available from me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he Java 3D chapters from my online boo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fivedots.coe.psu.ac.th/~ad/jg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he complet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Checkers3D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application is explained in chapter 8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fivedots.coe.psu.ac.th/~ad/jg/ch8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Java 3D Help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k me!</a:t>
            </a:r>
            <a:br>
              <a:rPr sz="2800"/>
            </a:br>
            <a:r>
              <a:rPr b="0" lang="th-TH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The Java 3D interest 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archives.java.sun.com/archives/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java3d-interest.html</a:t>
            </a:r>
            <a:br>
              <a:rPr sz="2000"/>
            </a:b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www.mail-archive.com/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java3d-interest@java.sun.com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comp.lang.java.3d</a:t>
            </a: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 news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groups.google.com/groups?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group=comp.lang.java.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01320" y="635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Java 3D at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java.sun.com/products/java-media/3D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j3d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www.j3d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The java.net (formely JavaGaming.org) forum on Java 3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www.javagaming.org/cgi-bin/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JGNetForums/YaBB.cgi?board=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afd00"/>
                </a:solidFill>
                <a:latin typeface="Times New Roman"/>
              </a:rPr>
              <a:t>2.  What is a Scene Graph?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de-DE" sz="3200" spc="-1" strike="noStrike">
                <a:solidFill>
                  <a:srgbClr val="8cf4ea"/>
                </a:solidFill>
                <a:latin typeface="Times New Roman"/>
              </a:rPr>
              <a:t>scene graph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is a tree-like data structure that stores, organizes, and renders 3D scene information (3D objects, materials, lights, behaviour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The scene graph makes 3D programming considerably easier than directly coding in OpenGL or Direct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300320"/>
            <a:ext cx="8458200" cy="464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13440" y="65088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A Typical Scene Grap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590920"/>
            <a:ext cx="6095880" cy="3504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90920"/>
            <a:ext cx="2438280" cy="350496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504960"/>
              <a:gd name="textAreaBottom" fmla="*/ 3386160 h 3504960"/>
            </a:gdLst>
            <a:ahLst/>
            <a:rect l="textAreaLeft" t="textAreaTop" r="textAreaRight" b="textAreaBottom"/>
            <a:pathLst>
              <a:path w="21600" h="31048">
                <a:moveTo>
                  <a:pt x="3600" y="0"/>
                </a:moveTo>
                <a:arcTo wR="3600" hR="3600" stAng="16200000" swAng="-5400000"/>
                <a:lnTo>
                  <a:pt x="0" y="27448"/>
                </a:lnTo>
                <a:arcTo wR="3600" hR="3600" stAng="10800000" swAng="-5400000"/>
                <a:lnTo>
                  <a:pt x="18000" y="310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6019920"/>
            <a:ext cx="2286000" cy="459720"/>
          </a:xfrm>
          <a:prstGeom prst="rect">
            <a:avLst/>
          </a:prstGeom>
          <a:solidFill>
            <a:srgbClr val="cce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imes New Roman"/>
              </a:rPr>
              <a:t>Content Branch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6019920"/>
            <a:ext cx="2297160" cy="459720"/>
          </a:xfrm>
          <a:prstGeom prst="rect">
            <a:avLst/>
          </a:prstGeom>
          <a:solidFill>
            <a:srgbClr val="cce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imes New Roman"/>
              </a:rPr>
              <a:t>View Branch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Scene Graph Symbols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1906560"/>
            <a:ext cx="305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cs (object relationships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1920960" y="2762280"/>
            <a:ext cx="444240" cy="444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728720" y="4038480"/>
            <a:ext cx="809640" cy="3524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4667400"/>
            <a:ext cx="1082520" cy="261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866960" y="3417840"/>
            <a:ext cx="547560" cy="365040"/>
            <a:chOff x="1866960" y="3417840"/>
            <a:chExt cx="547560" cy="365040"/>
          </a:xfrm>
        </p:grpSpPr>
        <p:sp>
          <p:nvSpPr>
            <p:cNvPr id="72" name=""/>
            <p:cNvSpPr/>
            <p:nvPr/>
          </p:nvSpPr>
          <p:spPr>
            <a:xfrm flipH="1">
              <a:off x="1866960" y="3417840"/>
              <a:ext cx="27288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2139840" y="3417840"/>
              <a:ext cx="27432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6960" y="3782880"/>
              <a:ext cx="54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869560" y="2743200"/>
            <a:ext cx="90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2870640" y="328932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af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2867400" y="3925800"/>
            <a:ext cx="209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de Componen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2867400" y="4564080"/>
            <a:ext cx="1665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ther object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514600"/>
            <a:ext cx="0" cy="34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5429880" y="2808360"/>
            <a:ext cx="203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ent-child link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661000" y="402264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928880"/>
            <a:ext cx="4395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des and Node Components (objects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362320"/>
            <a:ext cx="4191120" cy="75960"/>
          </a:xfrm>
          <a:prstGeom prst="rect">
            <a:avLst/>
          </a:prstGeom>
          <a:solidFill>
            <a:srgbClr val="d073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96252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27432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2362320"/>
            <a:ext cx="2819520" cy="75960"/>
          </a:xfrm>
          <a:prstGeom prst="rect">
            <a:avLst/>
          </a:prstGeom>
          <a:solidFill>
            <a:srgbClr val="d073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3.  A Java 3D Skeleton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All our Java 3D programs embed a scene inside a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JPanel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, which is part of a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this allows Swing GUI controls to be utilized along side the Java 3D panel (if necessa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We will develop an example called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Checkers3D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during the course of these sl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Checkers3D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scene consist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dark green and blue til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surface (and red cen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labels along the X and Z 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blu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floating sphere lit from two different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user (viewer) can move through the scene by moving the m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heckers2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5020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w Davison</cp:lastModifiedBy>
  <cp:lastPrinted>2003-10-20T03:49:53Z</cp:lastPrinted>
  <dcterms:modified xsi:type="dcterms:W3CDTF">2003-10-20T03:50:50Z</dcterms:modified>
  <cp:revision>33</cp:revision>
  <dc:subject/>
  <dc:title>Introduction to Java 3D</dc:title>
</cp:coreProperties>
</file>