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5260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96"/>
                  </a:moveTo>
                  <a:lnTo>
                    <a:pt x="0" y="0"/>
                  </a:lnTo>
                  <a:lnTo>
                    <a:pt x="480" y="480"/>
                  </a:lnTo>
                  <a:lnTo>
                    <a:pt x="384" y="480"/>
                  </a:lnTo>
                  <a:lnTo>
                    <a:pt x="0" y="96"/>
                  </a:lnTo>
                </a:path>
              </a:pathLst>
            </a:custGeom>
            <a:solidFill>
              <a:srgbClr val="14d1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480" y="0"/>
                  </a:moveTo>
                  <a:lnTo>
                    <a:pt x="480" y="96"/>
                  </a:lnTo>
                  <a:lnTo>
                    <a:pt x="96" y="480"/>
                  </a:lnTo>
                  <a:lnTo>
                    <a:pt x="0" y="480"/>
                  </a:lnTo>
                  <a:lnTo>
                    <a:pt x="48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384" y="0"/>
                  </a:moveTo>
                  <a:lnTo>
                    <a:pt x="480" y="0"/>
                  </a:lnTo>
                  <a:lnTo>
                    <a:pt x="0" y="480"/>
                  </a:lnTo>
                  <a:lnTo>
                    <a:pt x="0" y="384"/>
                  </a:lnTo>
                  <a:lnTo>
                    <a:pt x="384" y="0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96" y="0"/>
                  </a:moveTo>
                  <a:lnTo>
                    <a:pt x="480" y="384"/>
                  </a:lnTo>
                  <a:lnTo>
                    <a:pt x="480" y="480"/>
                  </a:ln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solidFill>
              <a:srgbClr val="00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073c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3200" y="6500880"/>
            <a:ext cx="2502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240-302 Comp. Eng. Lab IV. Java 3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8464320" y="650088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A4CC-B839-4FA8-BED6-5A6991C81AA6}" type="slidenum"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" name="header%20Coe%2002" descr=""/>
          <p:cNvPicPr/>
          <p:nvPr/>
        </p:nvPicPr>
        <p:blipFill>
          <a:blip r:embed="rId2"/>
          <a:stretch/>
        </p:blipFill>
        <p:spPr>
          <a:xfrm>
            <a:off x="85680" y="152280"/>
            <a:ext cx="7381800" cy="381240"/>
          </a:xfrm>
          <a:prstGeom prst="rect">
            <a:avLst/>
          </a:prstGeom>
          <a:ln w="0">
            <a:noFill/>
          </a:ln>
        </p:spPr>
      </p:pic>
      <p:pic>
        <p:nvPicPr>
          <p:cNvPr id="11" name="Icon%20Coe%200" descr=""/>
          <p:cNvPicPr/>
          <p:nvPr/>
        </p:nvPicPr>
        <p:blipFill>
          <a:blip r:embed="rId3"/>
          <a:stretch/>
        </p:blipFill>
        <p:spPr>
          <a:xfrm>
            <a:off x="101520" y="6324480"/>
            <a:ext cx="6606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Introduction to Java 3D  (2)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6200" y="3015720"/>
            <a:ext cx="383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Dr. Andrew Davison</a:t>
            </a:r>
            <a:br>
              <a:rPr sz="2800"/>
            </a:b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Room 101, CoE</a:t>
            </a:r>
            <a:br>
              <a:rPr sz="28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dandrew@ratree.psu.ac.th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74280" y="45612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240-302, Computer Engineering Lab IV (Software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294948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CheckerFloor Constructor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// constants for various colours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: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private BranchGroup floorBG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public CheckerFloor()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// create tiles, add origin marker,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// then the axes labels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{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ArrayList blueCoords = new ArrayList()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ArrayList greenCoords = new ArrayList(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floorBG = new BranchGroup(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boolean isBlue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for(int z = -FLOOR_LEN/2;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      z &lt;= (FLOOR_LEN/2)-1; z++) {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isBlue = (z%2 == 0)? true : false;   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 // set colour for new row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for(int x = -FLOOR_LEN/2;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       x &lt;= (FLOOR_LEN/2)-1; x++) {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if (isBlue)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th-TH" sz="2000" spc="-1" strike="noStrike">
                <a:solidFill>
                  <a:srgbClr val="fafd00"/>
                </a:solidFill>
                <a:latin typeface="Courier New"/>
              </a:rPr>
              <a:t>createCoords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(x, z, blueCoords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else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th-TH" sz="2000" spc="-1" strike="noStrike">
                <a:solidFill>
                  <a:srgbClr val="fafd00"/>
                </a:solidFill>
                <a:latin typeface="Courier New"/>
              </a:rPr>
              <a:t>createCoords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(x, z, greenCoords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isBlue = !isBlue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}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floorBG.addChild(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new </a:t>
            </a:r>
            <a:r>
              <a:rPr b="1" lang="th-TH" sz="2000" spc="-1" strike="noStrike">
                <a:solidFill>
                  <a:srgbClr val="fafd00"/>
                </a:solidFill>
                <a:latin typeface="Courier New"/>
              </a:rPr>
              <a:t>ColouredTiles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(blueCoords, blue) 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floorBG.addChild(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    new </a:t>
            </a:r>
            <a:r>
              <a:rPr b="1" lang="th-TH" sz="2000" spc="-1" strike="noStrike">
                <a:solidFill>
                  <a:srgbClr val="fafd00"/>
                </a:solidFill>
                <a:latin typeface="Courier New"/>
              </a:rPr>
              <a:t>ColouredTiles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(greenCoords, green) );</a:t>
            </a:r>
            <a:br>
              <a:rPr sz="2000"/>
            </a:b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addOriginMarker(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labelAxes(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}  // end of CheckerFloor(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public BranchGroup getBG()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{  return floorBG; 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private void createCoords(int x, int z,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ArrayList coords)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// Coords for a single blue or green square,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// its left hand corner at (x,0,z)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{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// points created in counter-clockwise order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Point3f p1 = new Point3f(x, 0.0f, z+1.0f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Point3f p2 = new Point3f(x+1.0f,0.0f,z+1.0f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Point3f p3 = new Point3f(x+1.0f, 0.0f, z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Point3f p4 = new Point3f(x, 0.0f, z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coords.add(p1); coords.add(p2);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  coords.add(p3); coords.add(p4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  }  // end of createCoord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5562720"/>
            <a:ext cx="220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57200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5105520"/>
            <a:ext cx="914400" cy="914400"/>
          </a:xfrm>
          <a:prstGeom prst="rect">
            <a:avLst/>
          </a:prstGeom>
          <a:solidFill>
            <a:srgbClr val="797ce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8672400" y="545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7966440" y="61866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8380800" y="54864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7770960" y="61866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827760" y="594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812304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815508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827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ColouredTiles Clas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  <a:ea typeface="Cordia New"/>
              </a:rPr>
              <a:t>ColouredTiles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class extends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  <a:ea typeface="Cordia New"/>
              </a:rPr>
              <a:t>Shape3D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, and defines the geometry and appearance of tile</a:t>
            </a:r>
            <a:r>
              <a:rPr b="1" lang="th-TH" sz="3200" spc="-1" strike="noStrike">
                <a:solidFill>
                  <a:srgbClr val="fafd00"/>
                </a:solidFill>
                <a:latin typeface="Times New Roman"/>
                <a:ea typeface="Cordia New"/>
              </a:rPr>
              <a:t>s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with the same colou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geometry uses a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  <a:ea typeface="Cordia New"/>
              </a:rPr>
              <a:t>QuadArray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to represent the tiles as a series of quadlilatera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00840" y="5638680"/>
            <a:ext cx="914400" cy="457200"/>
          </a:xfrm>
          <a:prstGeom prst="parallelogram">
            <a:avLst>
              <a:gd name="adj" fmla="val 50000"/>
            </a:avLst>
          </a:prstGeom>
          <a:solidFill>
            <a:srgbClr val="797ce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7143840" y="5638680"/>
            <a:ext cx="914400" cy="457200"/>
          </a:xfrm>
          <a:prstGeom prst="parallelogram">
            <a:avLst>
              <a:gd name="adj" fmla="val 50000"/>
            </a:avLst>
          </a:prstGeom>
          <a:solidFill>
            <a:srgbClr val="797ce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5792040" y="600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5925240" y="5256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782400" y="5256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6534720" y="600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991920" y="600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125480" y="5256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7982640" y="5256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7734960" y="600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QuadArray Creation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constructor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QuadArray(int vertexCount, int vertexForma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rdia New"/>
              </a:rPr>
              <a:t>ColouredTi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,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rdia New"/>
              </a:rPr>
              <a:t>QuadArr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plane is created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  <a:ea typeface="Cordia New"/>
              </a:rPr>
              <a:t>plan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= new QuadArray( coords.size()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      GeometryArray.COORDINATES |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              GeometryArray.COLOR_3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Filling the QuadArray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// coordinate dat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int numPoints = coords.size(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Point3f[] points = new Point3f[numPoints]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coords.toArray( points );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         // ArrayList--&gt;arra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  <a:ea typeface="Cordia New"/>
              </a:rPr>
              <a:t>plan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.setCoordinates(0, points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// colour dat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Color3f cols[] = new Color3f[numPoints]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for(int i=0; i &lt; numPoints; i++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  cols[i] = col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  <a:ea typeface="Cordia New"/>
              </a:rPr>
              <a:t>plan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.setColors(0, cols)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Issu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Counter-clockwise specification of the vertices for each qu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makes the top of the quad its 'front'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Ensure that each quad is a convex, planar polygon.</a:t>
            </a:r>
            <a:br>
              <a:rPr sz="3200"/>
            </a:b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Normals or no norm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Unreflecting Colour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You can specify a shape's colour in three way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in the shape's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Cordia New"/>
              </a:rPr>
              <a:t>when the scene is illumin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in the shape's colouring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Cordia New"/>
              </a:rPr>
              <a:t>used when the shape is unreflec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in the vertices of the shape's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lso for unreflecting shapes (used he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The Ax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Each axis value 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rdia New"/>
              </a:rPr>
              <a:t>Text2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object, which specifies the string, colour, font, point size, and font styl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Text2D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  <a:ea typeface="Cordia New"/>
              </a:rPr>
              <a:t>messag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=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new Text2D("...", white, "SansSerif"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    36, Font.BOLD ); 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    // 36 point bold Sans Ser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ontent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1.  Checkers3D Ag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2.  The Fl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3.  Viewer Positioning and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4.  Loader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5.  Behavior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6.  Ani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7.  Tex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8.  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Positioning an Axis Valu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TransformGroup axisTG = new TransformGroup(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Transform3D t3d = new Transform3D(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t3d.setTranslation( vertex );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// vertex is the position for the labe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axisTG.setTransform(t3d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axisTG.addChild(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  <a:ea typeface="Cordia New"/>
              </a:rPr>
              <a:t>messag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3.  Viewer Positioning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A simple way of positioning the viewer (the camera) is with th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lookAt()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method. It 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viewer’s intended posi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point which he is looking a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 vector specifying the upward dir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000" spc="-1" strike="noStrike">
                <a:solidFill>
                  <a:srgbClr val="fafd00"/>
                </a:solidFill>
                <a:latin typeface="Times New Roman"/>
              </a:rPr>
              <a:t>View Branch for Checkers3D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76520" y="1695600"/>
          <a:ext cx="6305400" cy="48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95600"/>
                    <a:ext cx="630540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295280" y="4038480"/>
            <a:ext cx="2362320" cy="609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541440" y="3276720"/>
            <a:ext cx="106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apply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lookAt(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her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4346280" y="4647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steerTG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Code Fragment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The view branch is created by th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SimpleUniverse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utility cla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su = new SimpleUniverse(canvas3D)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Access th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TransformGroup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node for th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ViewPlatform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ViewingPlatform vp = su.getViewingPlatform(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TransformGroup steerTG =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       vp.getViewPlatformTransform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01320" y="635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Apply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lookAt()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positioning (inverted since the position is relative to the viewer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Transform3D t3d = new Transform3D(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steerTG.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  <a:ea typeface="Cordia New"/>
              </a:rPr>
              <a:t>getTransform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(t3d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t3d.lookAt( 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new Point3d(0,5,20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new Point3d(0,0,0)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new Vector3d(0,1,0) 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t3d.invert(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steerTG.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  <a:ea typeface="Cordia New"/>
              </a:rPr>
              <a:t>setTransform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(t3d)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4648320"/>
            <a:ext cx="320040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Viewer Movement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OrbitBehavior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class allows a range of moves, rotations, and zooming of the viewer pos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OrbitBehavior orbit = 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new OrbitBehavior(c,OrbitBehavior.REVERSE_ALL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orbit.setSchedulingBounds(bounds);</a:t>
            </a:r>
            <a:br>
              <a:rPr sz="2000"/>
            </a:b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ViewingPlatform vp = su.getViewingPlatform();</a:t>
            </a:r>
            <a:br>
              <a:rPr sz="2000"/>
            </a:br>
            <a:r>
              <a:rPr b="0" lang="th-TH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vp.setViewPlatformBehavior(orbit)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4.  Loader Class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specifies the elements that should be loaded from a file written in a given 3D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Sc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extracts Java 3D scene graph information from the loaded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w3d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for Lightwave 3D scene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Object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for Wavefront .obj fi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ader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implements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a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interface in a generic way to encourage the building of loaders for other 3D formats through sub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Loader Subclass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Other Loader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 list of loaders for different file forma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rdia New"/>
              </a:rPr>
              <a:t>http://www.j3d.org/utilities/loaders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NCSA Portfol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supports a wide range of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oldish, currently unsupported, simp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See chapter 9 of my online boo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http://fivedots.coe.psu.ac.th/~ad/jg/ch9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ObjLoad Demo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</a:rPr>
              <a:t>ObjLoad.java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 example in the Java 3D demo collection shows how to load a .obj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&lt;JAVA HOME&gt;\demo\java3d\ObjL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cf4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Courier New"/>
              </a:rPr>
              <a:t>java ObjLoad galleon.ob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91160" y="3705120"/>
            <a:ext cx="294336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1.  Checkers3D Again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scene consist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 dark green and blue til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surface (and red cen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labels along the X and Z a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 blu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a floating sphere lit from two different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user (viewer) can move through the scene by moving the m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checkers2" descr=""/>
          <p:cNvPicPr/>
          <p:nvPr/>
        </p:nvPicPr>
        <p:blipFill>
          <a:blip r:embed="rId1"/>
          <a:stretch/>
        </p:blipFill>
        <p:spPr>
          <a:xfrm>
            <a:off x="5943600" y="762120"/>
            <a:ext cx="304488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Loader Exampl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// OBJ Loader classes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import com.sun.j3d.loaders.objectfile.ObjectFile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import com.sun.j3d.loaders.Scene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: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// load OBJ file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ObjectFile of = new 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ObjectFile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(ObjectFile.RESIZE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Scene scene = null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try {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scene = of.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load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("galleon.obj"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}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catch (Exception e) {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System.err.println(e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System.exit(1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}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// add loaded model to scene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BranchGroup modelBG = scene.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getSceneGroup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sceneBG.addChild( modelBG 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5.  Behavior Object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interaction and anim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specified with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 changes the sce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 in response to ev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presses, mouse move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collision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age of time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400" y="6659640"/>
            <a:ext cx="68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굴림"/>
              </a:rPr>
              <a:t>Interactions</a:t>
            </a:r>
            <a:endParaRPr b="0" lang="en-US" sz="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7172280" y="1447920"/>
            <a:ext cx="60948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G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172280" y="2895480"/>
            <a:ext cx="60948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G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4419720"/>
            <a:ext cx="914400" cy="914400"/>
          </a:xfrm>
          <a:prstGeom prst="rect">
            <a:avLst/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8077320" y="3200400"/>
            <a:ext cx="752400" cy="685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45" name=""/>
          <p:cNvCxnSpPr>
            <a:stCxn id="141" idx="4"/>
            <a:endCxn id="142" idx="0"/>
          </p:cNvCxnSpPr>
          <p:nvPr/>
        </p:nvCxnSpPr>
        <p:spPr>
          <a:xfrm>
            <a:off x="7476840" y="1981080"/>
            <a:ext cx="1080" cy="9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2" idx="4"/>
            <a:endCxn id="143" idx="0"/>
          </p:cNvCxnSpPr>
          <p:nvPr/>
        </p:nvCxnSpPr>
        <p:spPr>
          <a:xfrm>
            <a:off x="7476840" y="3429000"/>
            <a:ext cx="1080" cy="99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7"/>
            <a:endCxn id="144" idx="1"/>
          </p:cNvCxnSpPr>
          <p:nvPr/>
        </p:nvCxnSpPr>
        <p:spPr>
          <a:xfrm>
            <a:off x="7692840" y="2973240"/>
            <a:ext cx="573480" cy="570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4" idx="2"/>
            <a:endCxn id="142" idx="5"/>
          </p:cNvCxnSpPr>
          <p:nvPr/>
        </p:nvCxnSpPr>
        <p:spPr>
          <a:xfrm flipH="1" flipV="1">
            <a:off x="7692480" y="3350880"/>
            <a:ext cx="384840" cy="53568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877160" y="38091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Behavior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400" spc="-1" strike="noStrike">
                <a:solidFill>
                  <a:srgbClr val="fafd00"/>
                </a:solidFill>
                <a:latin typeface="Times New Roman"/>
              </a:rPr>
              <a:t>Some Behavior Class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Courier New"/>
              </a:rPr>
              <a:t>KeyNavigator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Courier New"/>
              </a:rPr>
              <a:t>MouseBehavior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</a:rPr>
              <a:t>User-defined </a:t>
            </a:r>
            <a:r>
              <a:rPr b="0" lang="ko-KR" sz="2400" spc="-1" strike="noStrike">
                <a:solidFill>
                  <a:srgbClr val="ffffff"/>
                </a:solidFill>
                <a:latin typeface="Courier New"/>
              </a:rPr>
              <a:t>Behavior</a:t>
            </a:r>
            <a:r>
              <a:rPr b="0" lang="ko-KR" sz="2800" spc="-1" strike="noStrike">
                <a:solidFill>
                  <a:srgbClr val="ffffff"/>
                </a:solidFill>
                <a:latin typeface="Times New Roman"/>
              </a:rPr>
              <a:t>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riggered by </a:t>
            </a:r>
            <a:r>
              <a:rPr b="0" lang="ko-KR" sz="2000" spc="-1" strike="noStrike">
                <a:solidFill>
                  <a:srgbClr val="ffffff"/>
                </a:solidFill>
                <a:latin typeface="Courier New"/>
              </a:rPr>
              <a:t>WakeupCondition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Courier New"/>
              </a:rPr>
              <a:t>PickMouse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Courier New"/>
              </a:rPr>
              <a:t>Interpo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400" spc="-1" strike="noStrike">
                <a:solidFill>
                  <a:srgbClr val="fafd00"/>
                </a:solidFill>
                <a:latin typeface="Times New Roman"/>
              </a:rPr>
              <a:t>WakeupCondition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mouse, keyboard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time and frame 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object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camera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sensor activity (input devi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Picking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211120" y="2741040"/>
            <a:ext cx="2435400" cy="914400"/>
          </a:xfrm>
          <a:custGeom>
            <a:avLst/>
            <a:gdLst>
              <a:gd name="textAreaLeft" fmla="*/ 535320 w 2435400"/>
              <a:gd name="textAreaRight" fmla="*/ 1900080 w 24354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2743200"/>
            <a:ext cx="990720" cy="990720"/>
          </a:xfrm>
          <a:prstGeom prst="rect">
            <a:avLst/>
          </a:prstGeom>
          <a:solidFill>
            <a:srgbClr val="faf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rot="18325800">
            <a:off x="3085920" y="3314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418f6e"/>
          </a:solidFill>
          <a:ln w="9360">
            <a:solidFill>
              <a:srgbClr val="418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44956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167652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in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orld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3276720"/>
            <a:ext cx="4419720" cy="47772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32004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3733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k ray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438280"/>
            <a:ext cx="762120" cy="11430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895480"/>
            <a:ext cx="228600" cy="228600"/>
          </a:xfrm>
          <a:prstGeom prst="ellipse">
            <a:avLst/>
          </a:prstGeom>
          <a:solidFill>
            <a:srgbClr val="74c05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228600" cy="228600"/>
          </a:xfrm>
          <a:prstGeom prst="ellipse">
            <a:avLst/>
          </a:prstGeom>
          <a:solidFill>
            <a:srgbClr val="74c05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505320"/>
            <a:ext cx="76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400" spc="-1" strike="noStrike">
                <a:solidFill>
                  <a:srgbClr val="fafd00"/>
                </a:solidFill>
                <a:latin typeface="Times New Roman"/>
              </a:rPr>
              <a:t>6.  Animation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Times New Roman"/>
              </a:rPr>
              <a:t>Animation is implemented using time-based interpolation (or morphing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time is specified using the </a:t>
            </a:r>
            <a:r>
              <a:rPr b="0" lang="ko-KR" sz="2400" spc="-1" strike="noStrike">
                <a:solidFill>
                  <a:srgbClr val="ffffff"/>
                </a:solidFill>
                <a:latin typeface="Courier New"/>
              </a:rPr>
              <a:t>Alpha</a:t>
            </a: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81080" y="4038480"/>
            <a:ext cx="5867640" cy="19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Alph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71520" y="1600200"/>
            <a:ext cx="8620200" cy="46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Interpolator Behavior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Position, Rotation,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cf4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ourier New"/>
              </a:rPr>
              <a:t>PositionInterpolator, RotationInterpolator, ScaleInterpol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Color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cf4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ourier New"/>
              </a:rPr>
              <a:t>ColorInterpol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cf4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ourier New"/>
              </a:rPr>
              <a:t>TransparencyInterpol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cf4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ourier New"/>
              </a:rPr>
              <a:t>SwitchValueInterpl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400" spc="-1" strike="noStrike">
                <a:solidFill>
                  <a:srgbClr val="fafd00"/>
                </a:solidFill>
                <a:latin typeface="Times New Roman"/>
              </a:rPr>
              <a:t>Interpolator Exampl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1701720"/>
            <a:ext cx="868680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400" spc="-1" strike="noStrike">
                <a:solidFill>
                  <a:srgbClr val="fafd00"/>
                </a:solidFill>
                <a:latin typeface="Times New Roman"/>
              </a:rPr>
              <a:t>Morphing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Morphing is the process of gradually deforming a shape into another 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</a:rPr>
              <a:t>changing a pyramid into a cu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</a:rPr>
              <a:t>changing a cat into a d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</a:rPr>
              <a:t>making a hand grasp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See the </a:t>
            </a:r>
            <a:r>
              <a:rPr b="0" lang="ko-KR" sz="2400" spc="-1" strike="noStrike">
                <a:solidFill>
                  <a:srgbClr val="ffffff"/>
                </a:solidFill>
                <a:latin typeface="Courier New"/>
              </a:rPr>
              <a:t>Morph</a:t>
            </a: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88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Scene Graph for Checkers3D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380960"/>
            <a:ext cx="5562360" cy="534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96200" y="3032280"/>
            <a:ext cx="1434960" cy="703800"/>
          </a:xfrm>
          <a:prstGeom prst="rect">
            <a:avLst/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view branch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</a:rPr>
              <a:t>not show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7.  Textur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he illusion of detail by wraping a complex image (texture) around a simple geome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ism is increased without the need for a complex sh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8440" y="6673680"/>
            <a:ext cx="79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굴림"/>
              </a:rPr>
              <a:t>Texture Mapping</a:t>
            </a:r>
            <a:endParaRPr b="0" lang="en-US" sz="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81" name="TextureCoordSys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143000" y="4267080"/>
            <a:ext cx="2925720" cy="2194200"/>
          </a:xfrm>
          <a:prstGeom prst="rect">
            <a:avLst/>
          </a:prstGeom>
          <a:ln w="0">
            <a:noFill/>
          </a:ln>
        </p:spPr>
      </p:pic>
      <p:pic>
        <p:nvPicPr>
          <p:cNvPr id="182" name="CubeBrickTranslateWrap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81480" y="4267080"/>
            <a:ext cx="2925720" cy="2194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501320" y="635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2D and 3D textures are suppo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</a:rPr>
              <a:t>Textures an be attached to shapes in a variety of predefined ways, or linked to specific coordinates in the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124080" y="4495680"/>
            <a:ext cx="533412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8.  Sound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nds are obtained from audio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.au” or “.wav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to modify the volume, left/right balance, and intramural delay of the audio 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... this is a buggy part of Java 3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01320" y="635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e sound uniformly in all direc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eSou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 PointSound to create a sound that can be directed along a 3D vect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8cf4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PointSound but does not have a location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88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WrapChecker3D Constructor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private SimpleUniverse su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private BranchGroup sceneBG;  // for content branch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private BoundingSphere bounds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public WrapCheckers3D()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{ setLayout( new BorderLayout() 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etOpaque( false 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etPreferredSize( new Dimension(PWIDTH, PHEIGHT));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GraphicsConfiguration config =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SimpleUniverse.getPreferredConfiguration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Canvas3D canvas3D = new Canvas3D(config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add("Center", canvas3D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canvas3D.setFocusable(true);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canvas3D.requestFocus();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u = new SimpleUniverse(canvas3D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createSceneGraph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initUserPosition();      // set user's viewpoint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orbitControls(canvas3D);  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      // controls for moving the viewpoint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u.addBranchGraph( sceneBG );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} // end of WrapCheckers3D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createSceneGraph()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private void createSceneGraph()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// initilise the scene below sceneBG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{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ceneBG = new BranchGroup();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bounds = new BoundingSphere(new Point3d(0,0,0),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BOUNDSIZE);   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lightScene();         // add the light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addBackground();      // add the sky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ceneBG.addChild( </a:t>
            </a:r>
            <a:r>
              <a:rPr b="1" lang="th-TH" sz="1800" spc="-1" strike="noStrike">
                <a:solidFill>
                  <a:srgbClr val="fafd00"/>
                </a:solidFill>
                <a:latin typeface="Courier New"/>
              </a:rPr>
              <a:t>new CheckerFloor().getBG()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);  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   // add the BranchGroup for the floor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floatingSphere();     // add the floating sphere</a:t>
            </a:r>
            <a:br>
              <a:rPr sz="1800"/>
            </a:b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  sceneBG.compile();   // fix the scene</a:t>
            </a:r>
            <a:br>
              <a:rPr sz="1800"/>
            </a:br>
            <a:r>
              <a:rPr b="0" lang="th-TH" sz="1800" spc="-1" strike="noStrike">
                <a:solidFill>
                  <a:srgbClr val="ffffff"/>
                </a:solidFill>
                <a:latin typeface="Courier New"/>
              </a:rPr>
              <a:t>  } // end of createSceneGraph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2.  The Floor 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The floor is made of tiles created with the our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  <a:ea typeface="Cordia New"/>
              </a:rPr>
              <a:t>ColouredTiles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class, and axis labels made with the </a:t>
            </a:r>
            <a:r>
              <a:rPr b="0" lang="th-TH" sz="2400" spc="-1" strike="noStrike">
                <a:solidFill>
                  <a:srgbClr val="ffffff"/>
                </a:solidFill>
                <a:latin typeface="Courier New"/>
                <a:ea typeface="Cordia New"/>
              </a:rPr>
              <a:t>Text2D</a:t>
            </a:r>
            <a:r>
              <a:rPr b="0" lang="th-TH" sz="3200" spc="-1" strike="noStrike">
                <a:solidFill>
                  <a:srgbClr val="ffffff"/>
                </a:solidFill>
                <a:latin typeface="Times New Roman"/>
                <a:ea typeface="Cordia New"/>
              </a:rPr>
              <a:t> utility clas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afd00"/>
                </a:solidFill>
                <a:latin typeface="Times New Roman"/>
              </a:rPr>
              <a:t>Floor Branch of the Scene Graph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1654200"/>
          <a:ext cx="822960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54200"/>
                    <a:ext cx="822960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754880" y="180972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floorBG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49120" y="38052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axisTG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w Davison</cp:lastModifiedBy>
  <cp:lastPrinted>2003-10-20T03:48:22Z</cp:lastPrinted>
  <dcterms:modified xsi:type="dcterms:W3CDTF">2003-10-20T03:50:54Z</dcterms:modified>
  <cp:revision>16</cp:revision>
  <dc:subject/>
  <dc:title>Introduction to Java 3D  (2)</dc:title>
</cp:coreProperties>
</file>